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510-0240-4A8B-89B4-B081F07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DDE-3990-4CAF-B9BE-EEB79208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2D5-E27A-4F34-BD06-F6D2464A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52C-66F0-4B53-8828-426AF26D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808-3C47-49A1-B71E-4C90CB18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96A-3879-45AB-995B-A3A2F15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752B-49C1-48AD-AEAC-C7C8DE5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2312-0371-48DA-B535-8E405785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932-54BE-410E-ABB4-CEDD51A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485-AF5E-4597-B8A8-DE6565E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D204-810D-48C1-BA5C-5BC45DE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564-68DF-4E4D-B42B-46F34B00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E978-143D-4F44-AF14-58ABEE9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B3B-C45C-49C0-A935-1C250F2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604-403A-4796-8EC8-1E6C0BFC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19A0-D44C-47A8-A43B-32F5729F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2D85-A153-4BA8-933B-0739628D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7F1-2FAD-4B76-A632-93DF43A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A27-EFA0-4A98-B63B-3E8C02AC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8E0-2CB5-470F-A72E-9DA1C155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1FF-5B7D-436E-94FB-29B7346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9AA-CE45-4D43-BC3A-028A608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551-C5F2-4C69-BAF6-1C5FF36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87B-F7FB-4E5E-87D5-73A2F59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D4F-9AB9-4955-968D-8ED55A639AA8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B97-6E04-4EDB-BF76-48C94199D33B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1720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l plant and animal cells have 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ell membrane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ytoplasm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d 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ucleus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t some stage in their life. That’s because all plant and animal cells need food for energy, water and a ‘control centre’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t cells also have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loroplasts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vacuole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ts need those extra features in their cells to make and store food, and to keep their shape.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ome animal cells have vacuoles, but they are very small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3860640"/>
          <a:ext cx="8213760" cy="79236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8520"/>
              </a:tblGrid>
              <a:tr h="792360"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 wall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arge Vacoul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loroplast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 Membran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mall Vacuole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ibosome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ucleu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itochondria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ytosol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95280" y="2421000"/>
          <a:ext cx="8213760" cy="79200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8520"/>
              </a:tblGrid>
              <a:tr h="792000"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Ziplock Bag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Jelly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aisin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Beaker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arge Marshmellow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Small Marshmellow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6120" rIns="96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Tic Tac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00s and 1000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5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hocolate Buds</a:t>
                      </a:r>
                      <a:endParaRPr b="0" lang="en-US" sz="15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90" name="TextBox 6"/>
          <p:cNvSpPr/>
          <p:nvPr/>
        </p:nvSpPr>
        <p:spPr>
          <a:xfrm>
            <a:off x="395280" y="1916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Use these material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71520" y="3357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To represent these organelles in a plant and an animal cell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95280" y="4724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Create a table in your books for both cells and complete it: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07880" y="5300640"/>
          <a:ext cx="8209080" cy="446040"/>
        </p:xfrm>
        <a:graphic>
          <a:graphicData uri="http://schemas.openxmlformats.org/drawingml/2006/table">
            <a:tbl>
              <a:tblPr/>
              <a:tblGrid>
                <a:gridCol w="1228680"/>
                <a:gridCol w="5415120"/>
                <a:gridCol w="15652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Organelle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Details about the organelle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1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epresented by</a:t>
                      </a:r>
                      <a:endParaRPr b="0" lang="en-US" sz="11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9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9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9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rcRect l="22987" t="32574" r="21106" b="16937"/>
          <a:stretch/>
        </p:blipFill>
        <p:spPr>
          <a:xfrm>
            <a:off x="395280" y="620640"/>
            <a:ext cx="49752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rcRect l="23412" t="29159" r="22532" b="17546"/>
          <a:stretch/>
        </p:blipFill>
        <p:spPr>
          <a:xfrm>
            <a:off x="3708360" y="3463920"/>
            <a:ext cx="53643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28T06:29:59Z</dcterms:modified>
  <cp:revision>50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